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F69-50FC-4E85-99BC-4F14770C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11A-698F-4D01-8D9F-B0B0ACD6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352-E5A0-48E7-9D8F-3E56121B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0EF-509D-4131-B23E-C777D7CD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FA3-6874-4EE6-B77B-0AA43362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C7E-9228-4ED1-8FB9-BB7857E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FB7-5B4D-4725-8FA2-4D721F02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D71-C1E2-4A4E-8429-556A038B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53A-BA9F-4D6A-B3C9-5D55C968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7F4-5CDE-4201-8B51-6F5B622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E97-B06C-4ECF-BC54-C84313F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D44-4FF9-44D7-A69C-0685EAC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072-4B2B-4484-85B9-F2707C77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45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56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59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count to 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3047760" cy="1065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</p:cNvPr>
          <p:cNvPicPr/>
          <p:nvPr/>
        </p:nvPicPr>
        <p:blipFill>
          <a:blip r:embed="rId3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81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93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96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children play gam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200400" y="209556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16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18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30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33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Mary ride a b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419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5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6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5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2895480" cy="81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56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68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71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Jack play the gui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44956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6" dur="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7" dur="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895480" cy="811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91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9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04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07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n elephant 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6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229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7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42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45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 frog jum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59:05Z</dcterms:created>
  <dc:creator>Gabi Sandru</dc:creator>
  <dc:description/>
  <dc:language>en-US</dc:language>
  <cp:lastModifiedBy>Gabi Sandru</cp:lastModifiedBy>
  <dcterms:modified xsi:type="dcterms:W3CDTF">2010-02-05T23:39:23Z</dcterms:modified>
  <cp:revision>11</cp:revision>
  <dc:subject/>
  <dc:title>Slide 1</dc:title>
</cp:coreProperties>
</file>